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E71-0813-4C3C-A594-C4D8D667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D29-3475-4FD4-BB59-8DE2A9D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8D7-FB19-4B8C-9710-368E38AE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1ED-75E0-4C9E-8434-AEFB72A2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544-A54D-4293-B4D7-C072A34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C94-74E3-423F-8EDC-1E6CC284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031-D4E2-4488-A0A0-84288743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D82-5631-4CC8-9E7F-FCFE838F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E6E-FCCC-4B4E-8CE2-0971CA70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AC8-CAFE-4A23-9A8C-D4B8C439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450-F329-414B-BD49-6D943700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03D-EA54-4C4A-8E90-A50617D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61F0-AB78-4CE0-A453-4BA808B06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3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viac m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o Pa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viac možno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om svete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ž tej tvojej láske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m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a odovzd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ňa šiel si na krí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alich múk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y som z tvojej lásky a dobroty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ím dlh vďaky splat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ti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ľub, že raz uzr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ú presvätú tvár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pre moju vi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rť podstúpi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mne život več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ým vydobyla?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u i vo ve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tvojím chcem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 vykúpený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v sláve ťa ct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nebude stra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ied, rán, súž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ej blažen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ez sĺz, lúčeni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ď, Pane náš drah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jav svoju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avždy sa skonč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la desivá no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vitne deň sláv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čas vzkrie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zdáme ti vďa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a dar spase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49:27Z</dcterms:modified>
  <cp:revision>22</cp:revision>
  <dc:subject/>
  <dc:title>Je veľký náš Pán, on slávy je Kráľ Nech do všetkých strán  spev vrúcnych znie chvál.</dc:title>
</cp:coreProperties>
</file>